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8.jpeg" ContentType="image/jpeg"/>
  <Override PartName="/ppt/media/image29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13.jpeg" ContentType="image/jpeg"/>
  <Override PartName="/ppt/media/image8.jpeg" ContentType="image/jpeg"/>
  <Override PartName="/ppt/media/image41.wmf" ContentType="image/x-wmf"/>
  <Override PartName="/ppt/media/image52.jpeg" ContentType="image/jpeg"/>
  <Override PartName="/ppt/media/image33.wmf" ContentType="image/x-wmf"/>
  <Override PartName="/ppt/media/image15.jpeg" ContentType="image/jpeg"/>
  <Override PartName="/ppt/media/image62.wmf" ContentType="image/x-wmf"/>
  <Override PartName="/ppt/media/image24.jpeg" ContentType="image/jpeg"/>
  <Override PartName="/ppt/media/image49.jpeg" ContentType="image/jpeg"/>
  <Override PartName="/ppt/media/image55.jpeg" ContentType="image/jpeg"/>
  <Override PartName="/ppt/media/image61.jpeg" ContentType="image/jpeg"/>
  <Override PartName="/ppt/media/image60.jpeg" ContentType="image/jpeg"/>
  <Override PartName="/ppt/media/image27.png" ContentType="image/png"/>
  <Override PartName="/ppt/media/image39.png" ContentType="image/png"/>
  <Override PartName="/ppt/media/image22.jpeg" ContentType="image/jpeg"/>
  <Override PartName="/ppt/media/image10.png" ContentType="image/png"/>
  <Override PartName="/ppt/media/image42.wmf" ContentType="image/x-wmf"/>
  <Override PartName="/ppt/media/image17.gif" ContentType="image/gif"/>
  <Override PartName="/ppt/media/image1.jpeg" ContentType="image/jpeg"/>
  <Override PartName="/ppt/media/image21.png" ContentType="image/png"/>
  <Override PartName="/ppt/media/image36.png" ContentType="image/png"/>
  <Override PartName="/ppt/media/image59.jpeg" ContentType="image/jpeg"/>
  <Override PartName="/ppt/media/image40.wmf" ContentType="image/x-wmf"/>
  <Override PartName="/ppt/media/image18.png" ContentType="image/png"/>
  <Override PartName="/ppt/media/image6.png" ContentType="image/png"/>
  <Override PartName="/ppt/media/image28.jpeg" ContentType="image/jpeg"/>
  <Override PartName="/ppt/media/image16.png" ContentType="image/png"/>
  <Override PartName="/ppt/media/image7.jpeg" ContentType="image/jpeg"/>
  <Override PartName="/ppt/media/image11.png" ContentType="image/png"/>
  <Override PartName="/ppt/media/image20.jpeg" ContentType="image/jpeg"/>
  <Override PartName="/ppt/media/image12.png" ContentType="image/png"/>
  <Override PartName="/ppt/media/image30.jpeg" ContentType="image/jpeg"/>
  <Override PartName="/ppt/media/image31.png" ContentType="image/png"/>
  <Override PartName="/ppt/media/image38.wmf" ContentType="image/x-wmf"/>
  <Override PartName="/ppt/media/image32.jpeg" ContentType="image/jpeg"/>
  <Override PartName="/ppt/media/image34.png" ContentType="image/png"/>
  <Override PartName="/ppt/media/image37.png" ContentType="image/png"/>
  <Override PartName="/ppt/media/image9.png" ContentType="image/png"/>
  <Override PartName="/ppt/media/image43.wmf" ContentType="image/x-wmf"/>
  <Override PartName="/ppt/media/image23.png" ContentType="image/png"/>
  <Override PartName="/ppt/media/image53.jpeg" ContentType="image/jpeg"/>
  <Override PartName="/ppt/media/image44.jpeg" ContentType="image/jpeg"/>
  <Override PartName="/ppt/media/image45.jpeg" ContentType="image/jpeg"/>
  <Override PartName="/ppt/media/image3.wmf" ContentType="image/x-wmf"/>
  <Override PartName="/ppt/media/image46.jpeg" ContentType="image/jpeg"/>
  <Override PartName="/ppt/media/image47.jpeg" ContentType="image/jpeg"/>
  <Override PartName="/ppt/media/image35.wmf" ContentType="image/x-wmf"/>
  <Override PartName="/ppt/media/image48.jpeg" ContentType="image/jpeg"/>
  <Override PartName="/ppt/media/image4.jpeg" ContentType="image/jpeg"/>
  <Override PartName="/ppt/media/image51.png" ContentType="image/png"/>
  <Override PartName="/ppt/media/image54.jpeg" ContentType="image/jpeg"/>
  <Override PartName="/ppt/media/image56.jpeg" ContentType="image/jpeg"/>
  <Override PartName="/ppt/media/image5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075-AA10-457D-84A1-7563ED8A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FD7-74F8-4224-966A-BF4A7010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8AD-B1A3-49E5-B41C-9F43E677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6E1-02E5-4A7F-8E91-E3C5D41A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553A-2795-41A9-9974-0591F640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F6EB-9688-4DAA-9862-EB3D9CFA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D564-A601-4BF1-A6A8-4C863322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4E28-1F37-404D-8976-AFCEB4C1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9C55-1DB5-4956-B563-C408D78A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B473-3064-4867-BD77-4D0230CE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4E51-CE50-4946-98E1-D2A8E189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884-5AB6-4E4D-B41A-6AE61992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A233-1876-486C-8626-6340D46F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2339-511C-4E2B-B1EB-9A54816D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F111-B256-44F9-B3D9-C9A4BAD2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36D4-0436-4BC7-9682-4BCC809C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C3A2-F3F6-440B-AB73-CDBADF67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C8E-1983-4233-9D36-9E6ED9E9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40D-89D0-432A-B520-103C70AA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CF6-2F57-4D12-A64A-2A3F7779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139-21CC-4A01-B4AF-CDC205DD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BBC-1FBE-4F14-9B63-91DAC7E2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B89-C7C1-4CDC-843E-FC46F60C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87B-8973-47B9-BC45-9774C2C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B53A-9B50-42E2-9985-72958930587F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5FFB-0B8E-40C3-87CE-D8A1186047A5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wmf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415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it One Chemistry – Horsham Colle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877000"/>
            <a:ext cx="9144000" cy="64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4 – VCE Chemist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81000"/>
            <a:ext cx="8278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Modern Periodic Tab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1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849600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4 on P. 72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04000" y="371628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endeleev and Mey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44053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Dmitri Mendeleev and German Julius von Meyer went on to independently develop their versions of the periodic law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hemists produced remarkably similar results at the same time working independently of one another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re has been some disagreement about who deserves credit for being the "father" of the periodic t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2156040" cy="288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561000" y="3789360"/>
            <a:ext cx="2341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mitri Mendeleev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1869 Mendeleev arranged elements by atomic weights and propertie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ndeleev's periodic table of 1869 contained 17 columns with two partial periods of seven elements each (Li-F &amp; Na-Cl) followed by two nearly complete periods (K-Br &amp; Rb-I)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1871 Mendeleev revised the 17-group table with eight columns (the eighth group consisted of transition elements)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table exhibited similarities not only in small units such as the triads, but showed similarities in an entire network of vertical, horizontal, and diagonal relationships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table contained gaps but Mendeleev predicted the discovery of new elements. 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1906, Mendeleev came within one vote of receiving the Nobel Prize in chemistry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148360" y="1268280"/>
            <a:ext cx="3549600" cy="527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27640" y="3860640"/>
            <a:ext cx="647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956720" y="189000"/>
            <a:ext cx="9144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7704000" cy="597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Julius von Mey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390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us von Mey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veloped a periodic table based on atomic masses, independently of Mendeleev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Meyer presented only 28 elemen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yer had several inaccuracies and some elements were not included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yer was the first scientist to introduce the concept of valence as a periodic property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Meyer never came to the idea of predicting new elements and correcting atomic weights.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2520" y="1413000"/>
            <a:ext cx="35053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few months after Mendeleev published his periodic table of all known elements (and predicted several new elements to complete the table, plus some corrected atomic weights), Meyer published a virtually identical table.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3097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323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2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49780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5 on P. 75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04000" y="3860640"/>
            <a:ext cx="18414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enry Mosele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392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tomic number instead of atomic mass as the organising principle was first proposed by the British chemist Henry Moseley in 1913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his discovery, atomic numbers were just sequential numbers based on an element's atomic weight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eley's discovery showed that atomic numbers had an experimentally measurable basi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number solved anomalies like Iodine, that has a higher atomic number than tellurium - so, even though he didn't know why, Mendeleev was right to place it after tellurium after all!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32000" y="1413000"/>
            <a:ext cx="350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eley's research also showed that there were gaps in his table at atomic numbers 43 and 61 which are now known to be radioactive and not naturally occurring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in the footsteps of Dmitri Mendeleyev, Henry Moseley also predicted new element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150400" y="189000"/>
            <a:ext cx="804600" cy="115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932360" y="4508640"/>
            <a:ext cx="3924360" cy="1780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Glenn Seaborg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183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the 1930s, the heaviest elements were being put up in the body of the periodic tabl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lenn Seaborg "plucked those out" while working with Fermi in Chicago, naming them the Actinide serie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later permitted proper placement of subsequently 'created' elements - the Transactinides, changing the periodic table yet again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elements were shown separate from the main body of the table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concept demonstrated how the heavy elements fit into the Periodic Table and thus demonstrated their relationships to the other elements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ddition to the discovery of transuranium elements,  Seaborg and his colleagues are responsible for the identification of more than 100 isotopes of elements throughout the Periodic Table.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3005280" cy="475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956720" y="26028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88000" y="4869000"/>
            <a:ext cx="1008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93080" cy="626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Periodic Table Development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emistry textbook, classroom, lecture theatre or research laboratory is complete without a copy of the periodic table of the elemen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s attempted to arrange the known elements in ways that revealed similarities between them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required the genius of Mendeleev to see that arranging elements into patterns was not enough;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sed that there was a natural plan in which each element has its allotted place, and this applies not only to the known elements but to some that were still undiscovered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 there are 111 elements recognised by IUPAC, and these are usually displayed in the form of a matrix called a periodic table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3024000" cy="496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Periods of the Periodic Table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676160"/>
            <a:ext cx="42609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izontal rows of the table are called period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7 period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in the same period have the same outermost occupied shel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Period 2 is filling the second shel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3751200" cy="4248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900000" y="6021360"/>
            <a:ext cx="79200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Groups of the Periodic Table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1676520"/>
            <a:ext cx="8134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tical columns are called group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are numbered 1-18. This replaces the old system of I-VIII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families have the same number of valence electrons in their valence (outermost) shel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4167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00000" y="404280"/>
            <a:ext cx="80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eriodic table groups are as follows (in the brackets are shown the old systems: European and American)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 (IA,IA): the alkali metals or hydrogen family/lith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2 (IIA,IIA): the alkaline earth metals or helium family/beryll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3 (IIIA,IIIB): the scand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4 (IVA,IVB): the titan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5 (VA,VB): the vanad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6 (VIA,VIB): the chrom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7 (VIIA,VIIB): the manganese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8 (VIII): the iro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9 (VIII): the cobalt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0 (VIII): the nickel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1 (IB,IB): the coinage metals (not an IUPAC-recommended name) or copper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2 (IIB,IIB): the zinc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3 (IIIB,IIIA): the boro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4 (IVB,IVA): the carbo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5 (VB,VA): the pnictogens (not an IUPAC-recommended name) or nitroge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6 (VIB,VIA): the chalcogens or oxyge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7 (VIIB,VIIA): the halogens or fluorine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8 (Group 0): the noble gases or helium family/neon family</a:t>
            </a: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3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856908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5 on P. 80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73272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Blocks of the Periodic Table (s-block)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5616720" cy="4848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-blo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of the valence shell is being fill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nce 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holds 2 electrons, only 2 groups of elements (Groups 1 &amp; 2) are in this blo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the outermost occupied shell there are 1 or 2 electrons in 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but none in 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the second outermost shell contains 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bshell, it does not contain electron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2663640" cy="3024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156360" y="4869000"/>
            <a:ext cx="2736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Blocks of the Periodic Table (p-block)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4824360" cy="4848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-blo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of the outermost shell is being fill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can hold only 6 electrons, hence there are 6 groups in the p-blo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the outermost occupied shell there are 2 electrons in the s subshell and 1 or more electrons in 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the second outermost shell contains 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, it is ful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600720" cy="3241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364000" y="5157720"/>
            <a:ext cx="356076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Blocks of the Periodic Table (d-block)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8062920" cy="247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subshell is being filled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e to the order of of energies of the subshells, this only occurs after the next shell has started to fil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subshell can hold 10 electrons, hence 10 groups are found in the d-block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tals in this block are collectively known as the transition metal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shell filling elements are called first transition series.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4d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re second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lectron configuration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 the outermost occupied shell the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shell is full but there are no electons in the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subshel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subshell of the second outermost shell contain 1 or more electron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4535280" cy="2278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148360" y="4437000"/>
            <a:ext cx="3241440" cy="1584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7921800" cy="619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4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5 on P. 83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732720" y="371628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Noble Gas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noble gases are found in group 18 of the modern periodic table. They were not included in the original periodic table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ble gases are found in minerals or in the atmosphere in trace amount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ble gases are un-reactive (inert) due to having a full outer shell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ry Cavendish, in 1784, placed some air and pure oxygen into a U-shaped tube that contained mercury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 then added some salts and a base to the mercury. Cavendish used a electric discharge to start the reactio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se reactions removed the nitrogen and oxygen from the air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rprisingly a bubble remained in the top of the tube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unreactive bubble was called ‘Cavendish’s bubble’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re than 100 years, this bubble was named Argon meaning Greek for ‘lazy one’.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7634160" cy="213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63000" y="189000"/>
            <a:ext cx="8017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Patterns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40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1800’s, scientists and alchemists did not consider the idea of patterns occurring between the known element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were considered unique and unrelated to any other elem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s who suggested that patterns may exist were ridiculed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dium and Potassium were discovered in the early 1800’s. Both have very similar properti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 evidence later suggested that elements could be sorted in order of increasing atomic weigh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2520" y="1413000"/>
            <a:ext cx="3505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were found to have repeating patterns. This is known as the periodic law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vancing knowledge of the atomic model furthered chemists knowledge of elemental properties.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198960" cy="2093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740720" y="476280"/>
            <a:ext cx="776160" cy="741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ayleigh and Ramse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392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ate nineteenth century, Lord Rayleigh and William Ramsay theorised that the nitrogen extracted from air was associated with another gas, argon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is discovery, they realized that a whole class of gases was missing from the periodic table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ually all the known noble gases except for helium were discovered in the air, with argon being much more common than the others, and the table was completed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um was detected spectrographically in the Sun in 1868. The isolation of helium on Earth had to wait until 1895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on was isolated and studied in 1910 after many years of investigating by Ramsey. Radon is radioactiv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2205000"/>
            <a:ext cx="3505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1874880" cy="2593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1674720" cy="2565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076720" y="4076640"/>
            <a:ext cx="1873440" cy="135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5076720" y="5445000"/>
            <a:ext cx="1862280" cy="1235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067520" y="4076640"/>
            <a:ext cx="1712880" cy="2570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7129440" cy="3114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332000" y="3429000"/>
            <a:ext cx="7127640" cy="3224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6667560" cy="129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6667560" cy="1368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619280" y="3357720"/>
            <a:ext cx="6667560" cy="1368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619280" y="4869000"/>
            <a:ext cx="6667560" cy="136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620720" y="2595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ements known before 1700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1699560"/>
            <a:ext cx="59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ements known before 1700, plus those discovered between 1700 and 1799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24000" y="3357000"/>
            <a:ext cx="60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ements known before 1800, plus those discovered between 1800 and 1899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4868280"/>
            <a:ext cx="65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ements known before 1900, plus those discovered between 1900 and 2005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issing 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798984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1925, 88 out of the 92 naturally occurring elements had been identifie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43 (Technetium) ,61 (Promethium), 85 (Astatine) and 87 (Francium) were missin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re radioactive with very short half-liv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1,85 and 87 have been identified in decaying uranium. All are extremely rar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 has only been produced synthetically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iodic table is now complete!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39640" y="479736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987640" y="479736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dfd293"/>
                </a:solidFill>
                <a:latin typeface="Arial Black"/>
              </a:rPr>
              <a:t>Alternative Tables </a:t>
            </a:r>
            <a:br>
              <a:rPr sz="3600"/>
            </a:br>
            <a:r>
              <a:rPr b="0" lang="en-US" sz="2400" spc="-1" strike="noStrike">
                <a:solidFill>
                  <a:srgbClr val="7e2a00"/>
                </a:solidFill>
                <a:latin typeface="Arial Black"/>
              </a:rPr>
              <a:t>The periodic spiral of Professor Thoedor Benfey.</a:t>
            </a:r>
            <a:br>
              <a:rPr sz="2400"/>
            </a:b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7632720" cy="5199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dfd293"/>
                </a:solidFill>
                <a:latin typeface="Arial Black"/>
              </a:rPr>
              <a:t>Alternative Tables </a:t>
            </a:r>
            <a:br>
              <a:rPr sz="3600"/>
            </a:br>
            <a:r>
              <a:rPr b="0" lang="en-US" sz="2400" spc="-1" strike="noStrike">
                <a:solidFill>
                  <a:srgbClr val="7e2a00"/>
                </a:solidFill>
                <a:latin typeface="Arial Black"/>
              </a:rPr>
              <a:t>Albert Tarantola’s orbital periodic table.</a:t>
            </a:r>
            <a:br>
              <a:rPr sz="2400"/>
            </a:b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7705800" cy="4969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Alternative Tables </a:t>
            </a:r>
            <a:br>
              <a:rPr sz="3600"/>
            </a:br>
            <a:r>
              <a:rPr b="0" lang="en-US" sz="2400" spc="-1" strike="noStrike">
                <a:solidFill>
                  <a:srgbClr val="5c1f00"/>
                </a:solidFill>
                <a:latin typeface="Arial Black"/>
              </a:rPr>
              <a:t>Alexander Arrangement of the Elements</a:t>
            </a: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7561080" cy="4919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towe’s Arrang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720072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5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280" y="1676160"/>
            <a:ext cx="820908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4 on P. 86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65964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Arial Black"/>
              </a:rPr>
              <a:t>Review Ques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424720" cy="477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8 on P. 88-89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Early classification -Antoine Lavoisier of 1789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toine Lavoisier's 1789 classification of substances divided substances into four 'element' group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ist contained substances that could not be broken down further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cid-making elements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lphur, Phosphorus, charcoal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as-like elements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, caloric (heat), oxygen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tallic elements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balt, mercury, tin, copper, nickel, iron, gold, lead, silver, zinc, manganese, tungsten, platinu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rthy elements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me, magnesia, barytes, azote, argilla, silex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voisier also formed the basis for the modern list of elements.</a:t>
            </a: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72320" y="4941720"/>
            <a:ext cx="114768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Döbereiner’s Tria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405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1829, German Johann Döbereiner discovered that groups of elements with similar chemical properties such as Lithium, Sodium and Potassium had a strange similarity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verage of the atomic weight of Lithium and Potassium was the same as the atomic weight of Sodium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middle element in the triad had properties halfway between the properties of the other two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pattern was replicated with Calcium, Strontium and Barium as well as Sulphur, Selenium, and Tellurium and also Chlorine, Bromine and Iodine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ddition, the densities of some of the triads followed the same relationship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groups became known as "Döbereiner's triads"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812000" y="189000"/>
            <a:ext cx="1122480" cy="122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76720" y="14839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Ca   Sr   Ba     (40 + 137) ÷ 2 = 88</a:t>
            </a: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40   88   137</a:t>
            </a: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76720" y="2205000"/>
            <a:ext cx="3851280" cy="1501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image: Two of Dobereiner's triads. Table 1, Alkali formers: lithium, sodium and potassium. Table 2, Salt formers: chlorine, bromine and iodine."/>
          <p:cNvPicPr/>
          <p:nvPr/>
        </p:nvPicPr>
        <p:blipFill>
          <a:blip r:embed="rId5"/>
          <a:stretch/>
        </p:blipFill>
        <p:spPr>
          <a:xfrm>
            <a:off x="5076720" y="3860640"/>
            <a:ext cx="381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5904000" cy="206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71640" y="2436840"/>
            <a:ext cx="7921440" cy="408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042920" y="260280"/>
            <a:ext cx="1849680" cy="208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Cylinder of 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1862, Frenchman Alexandre de Chancourtois published a cylindrical arrangement of the elements (Also called the telluric screw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lements, based on Oxygen-16, differed by 16 in their atomic weigh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ke Döbereiner, Chancourtois’ cylinder received little atten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164360" y="4508640"/>
            <a:ext cx="1484280" cy="208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508720" y="4508640"/>
            <a:ext cx="15984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Law of Octav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3322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glish Chemist, John Newlands discovered that every eighth element had similar properti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 called this the law of octaves (Analogy with music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wlands developed a table in which he placed elements with similar properties in the same collum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fortunately, his table was ridiculed by the Royal Society in 1864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2520" y="1413000"/>
            <a:ext cx="3940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ever, while successful for some elements, Newlands' law of octaves failed for two reasons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t was not valid for elements that had atomic masses higher than C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n further elements were discovered, such as the noble gases (He, Ne, Ar), they could not be accommodated in his table.</a:t>
            </a: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58920" y="5157720"/>
            <a:ext cx="30258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6985080" cy="3826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76720" y="4365720"/>
            <a:ext cx="1690560" cy="230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351480" y="582444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157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ohn Newlan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1:15:49Z</dcterms:created>
  <dc:creator>DE&amp;T User</dc:creator>
  <dc:description/>
  <dc:language>en-US</dc:language>
  <cp:lastModifiedBy>DE&amp;T User</cp:lastModifiedBy>
  <dcterms:modified xsi:type="dcterms:W3CDTF">2008-01-06T10:02:08Z</dcterms:modified>
  <cp:revision>62</cp:revision>
  <dc:subject/>
  <dc:title>The Structure of the Atom</dc:title>
</cp:coreProperties>
</file>